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46.jpeg" ContentType="image/jpeg"/>
  <Override PartName="/ppt/media/image2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BFD6A-452E-4E3E-9E56-9A9AB5B673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8DC4F-78A9-4461-A2AE-ED13BC27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sent one time through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art . Present again and asking more comprehension questions.  Have students repeat. Split up the parts Then have students figure out what words and phrases m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2E6-CF94-4281-95F0-66F103F8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263-6950-4BB9-8CFA-E3AE8C9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56D-AC6F-45AC-BFC2-554A3BC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807-EB05-407A-94B1-3043EAC6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4CB-C4B8-4095-82BD-C84ED4E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92E-5041-4787-82D4-ECCB427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EBE-5BBE-4BF5-B130-6D8DE42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59D-C3C7-4B1C-A0BE-5641281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CEE-2D36-4C8D-AA93-DD92E39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A27-168C-4E6E-94E5-E5B3FE9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BA8-438C-41C5-B6C2-6BAF34D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A1B-8978-447A-9C81-7D2D76B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C7430-3A63-4AF6-AA5C-0375F41C8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1F572-176B-40FA-B10F-6CC9AAFF3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uizlet.com/6457597/spanish-speaking-countries-and-capitals-along-with-their-map-flash-cards/" TargetMode="External"/><Relationship Id="rId2" Type="http://schemas.openxmlformats.org/officeDocument/2006/relationships/hyperlink" Target="http://www.purposegames.com/game/spanish-speaking-countries-quiz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moustourisms.com/2011/05/some-pictures-about-the-beach-in-barcelona-spain/picture_091_mid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 Empezar (Start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uizlet.com/6457597/spanish-speaking-countries-and-capitals-along-with-their-map-flash-card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urposegames.com/game/spanish-speaking-countries-q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ity6"/>
          <p:cNvPicPr/>
          <p:nvPr/>
        </p:nvPicPr>
        <p:blipFill>
          <a:blip r:embed="rId1"/>
          <a:stretch/>
        </p:blipFill>
        <p:spPr>
          <a:xfrm>
            <a:off x="4343400" y="1695600"/>
            <a:ext cx="5048280" cy="379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rcelona1"/>
          <p:cNvPicPr/>
          <p:nvPr/>
        </p:nvPicPr>
        <p:blipFill>
          <a:blip r:embed="rId2"/>
          <a:stretch/>
        </p:blipFill>
        <p:spPr>
          <a:xfrm>
            <a:off x="0" y="11430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Sagrada Familia (Catedral en Barcelon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barcelona-cruises-2"/>
          <p:cNvPicPr/>
          <p:nvPr/>
        </p:nvPicPr>
        <p:blipFill>
          <a:blip r:embed="rId1"/>
          <a:stretch/>
        </p:blipFill>
        <p:spPr>
          <a:xfrm>
            <a:off x="1371600" y="1517760"/>
            <a:ext cx="6629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playa en 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nerja beach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93920"/>
            <a:ext cx="67672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Barcelona_Beach"/>
          <p:cNvPicPr/>
          <p:nvPr/>
        </p:nvPicPr>
        <p:blipFill>
          <a:blip r:embed="rId1"/>
          <a:stretch/>
        </p:blipFill>
        <p:spPr>
          <a:xfrm>
            <a:off x="2743200" y="1417680"/>
            <a:ext cx="40845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Luci. ¿Qué lenguas habla tu pad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648320" y="0"/>
            <a:ext cx="4495680" cy="2514600"/>
          </a:xfrm>
          <a:prstGeom prst="wedgeEllipseCallout">
            <a:avLst>
              <a:gd name="adj1" fmla="val -351"/>
              <a:gd name="adj2" fmla="val 67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i padre habla catalán y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box-tm_catalan"/>
          <p:cNvPicPr/>
          <p:nvPr/>
        </p:nvPicPr>
        <p:blipFill>
          <a:blip r:embed="rId3"/>
          <a:stretch/>
        </p:blipFill>
        <p:spPr>
          <a:xfrm>
            <a:off x="3638520" y="2895480"/>
            <a:ext cx="2381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map_001"/>
          <p:cNvPicPr/>
          <p:nvPr/>
        </p:nvPicPr>
        <p:blipFill>
          <a:blip r:embed="rId1"/>
          <a:stretch/>
        </p:blipFill>
        <p:spPr>
          <a:xfrm>
            <a:off x="1752480" y="274680"/>
            <a:ext cx="49309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2629"/>
              <a:gd name="adj2" fmla="val 67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Qué interestante! ¿y tu mamá también habla cata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495680" y="0"/>
            <a:ext cx="4648320" cy="2514600"/>
          </a:xfrm>
          <a:prstGeom prst="wedgeEllipseCallout">
            <a:avLst>
              <a:gd name="adj1" fmla="val 10518"/>
              <a:gd name="adj2" fmla="val 61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, mi mamá es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mexicofan"/>
          <p:cNvPicPr/>
          <p:nvPr/>
        </p:nvPicPr>
        <p:blipFill>
          <a:blip r:embed="rId3"/>
          <a:stretch/>
        </p:blipFill>
        <p:spPr>
          <a:xfrm>
            <a:off x="2505240" y="3124080"/>
            <a:ext cx="4286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Mexico_map"/>
          <p:cNvPicPr/>
          <p:nvPr/>
        </p:nvPicPr>
        <p:blipFill>
          <a:blip r:embed="rId1"/>
          <a:stretch/>
        </p:blipFill>
        <p:spPr>
          <a:xfrm>
            <a:off x="0" y="880920"/>
            <a:ext cx="902016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Spanish-Course-Mexico(1)"/>
          <p:cNvPicPr/>
          <p:nvPr/>
        </p:nvPicPr>
        <p:blipFill>
          <a:blip r:embed="rId1"/>
          <a:stretch/>
        </p:blipFill>
        <p:spPr>
          <a:xfrm>
            <a:off x="0" y="0"/>
            <a:ext cx="454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exicopicture"/>
          <p:cNvPicPr/>
          <p:nvPr/>
        </p:nvPicPr>
        <p:blipFill>
          <a:blip r:embed="rId2"/>
          <a:stretch/>
        </p:blipFill>
        <p:spPr>
          <a:xfrm>
            <a:off x="0" y="2846520"/>
            <a:ext cx="4900680" cy="367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atedral-mexico-df"/>
          <p:cNvPicPr/>
          <p:nvPr/>
        </p:nvPicPr>
        <p:blipFill>
          <a:blip r:embed="rId3"/>
          <a:stretch/>
        </p:blipFill>
        <p:spPr>
          <a:xfrm>
            <a:off x="4443480" y="-1116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800px-Mexico_Flag_Map_svg"/>
          <p:cNvPicPr/>
          <p:nvPr/>
        </p:nvPicPr>
        <p:blipFill>
          <a:blip r:embed="rId4"/>
          <a:stretch/>
        </p:blipFill>
        <p:spPr>
          <a:xfrm>
            <a:off x="2762280" y="2187720"/>
            <a:ext cx="6381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3314"/>
              <a:gd name="adj2" fmla="val 70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ve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Tú mamá es méxic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4648320" y="0"/>
            <a:ext cx="4495680" cy="2514600"/>
          </a:xfrm>
          <a:prstGeom prst="wedgeEllipseCallout">
            <a:avLst>
              <a:gd name="adj1" fmla="val 3884"/>
              <a:gd name="adj2" fmla="val 71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ella es méxicana. Es de Guadalajara,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exico_country_map"/>
          <p:cNvPicPr/>
          <p:nvPr/>
        </p:nvPicPr>
        <p:blipFill>
          <a:blip r:embed="rId3"/>
          <a:stretch/>
        </p:blipFill>
        <p:spPr>
          <a:xfrm>
            <a:off x="2505240" y="3276720"/>
            <a:ext cx="4286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76320" y="-360"/>
            <a:ext cx="9220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pañ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y es_________________________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ubtitle 2" descr="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556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078770"/>
          <p:cNvPicPr/>
          <p:nvPr/>
        </p:nvPicPr>
        <p:blipFill>
          <a:blip r:embed="rId2"/>
          <a:stretch/>
        </p:blipFill>
        <p:spPr>
          <a:xfrm>
            <a:off x="6095880" y="1798560"/>
            <a:ext cx="27021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guadalajara-cathedral"/>
          <p:cNvPicPr/>
          <p:nvPr/>
        </p:nvPicPr>
        <p:blipFill>
          <a:blip r:embed="rId1"/>
          <a:stretch/>
        </p:blipFill>
        <p:spPr>
          <a:xfrm>
            <a:off x="3676680" y="3308400"/>
            <a:ext cx="5467320" cy="354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providencia-country-skyline"/>
          <p:cNvPicPr/>
          <p:nvPr/>
        </p:nvPicPr>
        <p:blipFill>
          <a:blip r:embed="rId2"/>
          <a:stretch/>
        </p:blipFill>
        <p:spPr>
          <a:xfrm>
            <a:off x="0" y="-228600"/>
            <a:ext cx="5238720" cy="380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guadalajara_pic"/>
          <p:cNvPicPr/>
          <p:nvPr/>
        </p:nvPicPr>
        <p:blipFill>
          <a:blip r:embed="rId3"/>
          <a:stretch/>
        </p:blipFill>
        <p:spPr>
          <a:xfrm>
            <a:off x="5638680" y="103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GDLCatedral"/>
          <p:cNvPicPr/>
          <p:nvPr/>
        </p:nvPicPr>
        <p:blipFill>
          <a:blip r:embed="rId4"/>
          <a:stretch/>
        </p:blipFill>
        <p:spPr>
          <a:xfrm>
            <a:off x="152280" y="3308400"/>
            <a:ext cx="26575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De Méx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-19328"/>
              <a:gd name="adj2" fmla="val 72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Sí órale! !Es muy guay!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Viva_Mexico_by_mexicanos1"/>
          <p:cNvPicPr/>
          <p:nvPr/>
        </p:nvPicPr>
        <p:blipFill>
          <a:blip r:embed="rId3"/>
          <a:stretch/>
        </p:blipFill>
        <p:spPr>
          <a:xfrm>
            <a:off x="2778120" y="4054320"/>
            <a:ext cx="3433680" cy="256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viva-mexico"/>
          <p:cNvPicPr/>
          <p:nvPr/>
        </p:nvPicPr>
        <p:blipFill>
          <a:blip r:embed="rId4"/>
          <a:stretch/>
        </p:blipFill>
        <p:spPr>
          <a:xfrm>
            <a:off x="3638520" y="251460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s…sí es muy gu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-19328"/>
              <a:gd name="adj2" fmla="val 72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y tú Chavo? ¿De dónde e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Viva_Mexico_by_mexicanos1"/>
          <p:cNvPicPr/>
          <p:nvPr/>
        </p:nvPicPr>
        <p:blipFill>
          <a:blip r:embed="rId3"/>
          <a:stretch/>
        </p:blipFill>
        <p:spPr>
          <a:xfrm>
            <a:off x="2778120" y="4054320"/>
            <a:ext cx="3433680" cy="256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viva-mexico"/>
          <p:cNvPicPr/>
          <p:nvPr/>
        </p:nvPicPr>
        <p:blipFill>
          <a:blip r:embed="rId4"/>
          <a:stretch/>
        </p:blipFill>
        <p:spPr>
          <a:xfrm>
            <a:off x="3638520" y="251460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-53352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y de Chile. Soy de la capital, 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2870"/>
              <a:gd name="adj2" fmla="val 61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Qué gu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chile"/>
          <p:cNvPicPr/>
          <p:nvPr/>
        </p:nvPicPr>
        <p:blipFill>
          <a:blip r:embed="rId3"/>
          <a:stretch/>
        </p:blipFill>
        <p:spPr>
          <a:xfrm>
            <a:off x="3119400" y="1371600"/>
            <a:ext cx="2752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ntiago,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Santiago_Chile_and_Andes_Mountains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plaza en Santia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santiago-chile"/>
          <p:cNvPicPr/>
          <p:nvPr/>
        </p:nvPicPr>
        <p:blipFill>
          <a:blip r:embed="rId1"/>
          <a:stretch/>
        </p:blipFill>
        <p:spPr>
          <a:xfrm>
            <a:off x="1219320" y="14176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6019920" y="2048040"/>
            <a:ext cx="3632040" cy="45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7480" y="2048040"/>
            <a:ext cx="2388960" cy="45622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3518"/>
              <a:gd name="adj2" fmla="val 70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me gusta mucho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4027"/>
              <a:gd name="adj2" fmla="val 61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Hablas un lengua indíg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mapuche_win"/>
          <p:cNvPicPr/>
          <p:nvPr/>
        </p:nvPicPr>
        <p:blipFill>
          <a:blip r:embed="rId3"/>
          <a:stretch/>
        </p:blipFill>
        <p:spPr>
          <a:xfrm>
            <a:off x="2476440" y="3276720"/>
            <a:ext cx="4191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80880" y="229536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8"/>
          <p:cNvSpPr/>
          <p:nvPr/>
        </p:nvSpPr>
        <p:spPr>
          <a:xfrm>
            <a:off x="0" y="0"/>
            <a:ext cx="4648320" cy="2666880"/>
          </a:xfrm>
          <a:prstGeom prst="wedgeEllipseCallout">
            <a:avLst>
              <a:gd name="adj1" fmla="val 3847"/>
              <a:gd name="adj2" fmla="val 86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o solo hablo español…y hablo inglés también. ¡Por supuesto! (of cours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7657"/>
              <a:gd name="adj2" fmla="val 63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Pues claro (of course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espanol"/>
          <p:cNvPicPr/>
          <p:nvPr/>
        </p:nvPicPr>
        <p:blipFill>
          <a:blip r:embed="rId3"/>
          <a:stretch/>
        </p:blipFill>
        <p:spPr>
          <a:xfrm>
            <a:off x="3425760" y="2971800"/>
            <a:ext cx="2289240" cy="13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learn-english1"/>
          <p:cNvPicPr/>
          <p:nvPr/>
        </p:nvPicPr>
        <p:blipFill>
          <a:blip r:embed="rId4"/>
          <a:stretch/>
        </p:blipFill>
        <p:spPr>
          <a:xfrm>
            <a:off x="3624120" y="4549680"/>
            <a:ext cx="20908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5181480" y="250020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2287"/>
              <a:gd name="adj2" fmla="val 85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Qué lenguas hablas tú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4648320" y="0"/>
            <a:ext cx="4495680" cy="2895480"/>
          </a:xfrm>
          <a:prstGeom prst="wedgeEllipseCallout">
            <a:avLst>
              <a:gd name="adj1" fmla="val -1763"/>
              <a:gd name="adj2" fmla="val 61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ues…hablo inglés y español. También hablo francés y cata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box-tm_catalan"/>
          <p:cNvPicPr/>
          <p:nvPr/>
        </p:nvPicPr>
        <p:blipFill>
          <a:blip r:embed="rId3"/>
          <a:stretch/>
        </p:blipFill>
        <p:spPr>
          <a:xfrm>
            <a:off x="3327480" y="4362480"/>
            <a:ext cx="1854000" cy="240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arle_francais_rouge_4-1a4a1"/>
          <p:cNvPicPr/>
          <p:nvPr/>
        </p:nvPicPr>
        <p:blipFill>
          <a:blip r:embed="rId4"/>
          <a:stretch/>
        </p:blipFill>
        <p:spPr>
          <a:xfrm>
            <a:off x="3228840" y="2500200"/>
            <a:ext cx="1952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555"/>
              <a:gd name="adj2" fmla="val 88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Hablas francés también? ¡Gen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114800" y="0"/>
            <a:ext cx="5029200" cy="2895480"/>
          </a:xfrm>
          <a:prstGeom prst="wedgeEllipseCallout">
            <a:avLst>
              <a:gd name="adj1" fmla="val -8490"/>
              <a:gd name="adj2" fmla="val 54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y pues…gracias Ch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parle_francais_rouge_4-1a4a1"/>
          <p:cNvPicPr/>
          <p:nvPr/>
        </p:nvPicPr>
        <p:blipFill>
          <a:blip r:embed="rId3"/>
          <a:stretch/>
        </p:blipFill>
        <p:spPr>
          <a:xfrm>
            <a:off x="3303720" y="3352680"/>
            <a:ext cx="1952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¿De dónde eres tú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61960" y="2716200"/>
            <a:ext cx="3046320" cy="382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648320" y="2716200"/>
            <a:ext cx="195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1752480" y="0"/>
            <a:ext cx="2895840" cy="2514600"/>
          </a:xfrm>
          <a:prstGeom prst="wedgeEllipseCallout">
            <a:avLst>
              <a:gd name="adj1" fmla="val -2083"/>
              <a:gd name="adj2" fmla="val 88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s, hasta mañana Lu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5029200" y="0"/>
            <a:ext cx="3632040" cy="2514600"/>
          </a:xfrm>
          <a:prstGeom prst="wedgeEllipseCallout">
            <a:avLst>
              <a:gd name="adj1" fmla="val -23032"/>
              <a:gd name="adj2" fmla="val 79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Sí! ¡Hasta luego Cha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0880" y="304920"/>
            <a:ext cx="1143000" cy="1371600"/>
          </a:xfrm>
          <a:prstGeom prst="borderCallout2">
            <a:avLst>
              <a:gd name="adj1" fmla="val 18750"/>
              <a:gd name="adj2" fmla="val -8333"/>
              <a:gd name="adj3" fmla="val 8333"/>
              <a:gd name="adj4" fmla="val -12777"/>
              <a:gd name="adj5" fmla="val 97685"/>
              <a:gd name="adj6" fmla="val -343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n rin 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wer about Luci…go back and look at the dialog if you forgo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Luci?  Ella es de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el padre de Luc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es d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la madre de Luc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es d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el papá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la mamá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eak it down…The verb habla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pronoun I"/>
          <p:cNvPicPr/>
          <p:nvPr/>
        </p:nvPicPr>
        <p:blipFill>
          <a:blip r:embed="rId1"/>
          <a:stretch/>
        </p:blipFill>
        <p:spPr>
          <a:xfrm>
            <a:off x="1371600" y="2133720"/>
            <a:ext cx="826920" cy="121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pronoun you"/>
          <p:cNvPicPr/>
          <p:nvPr/>
        </p:nvPicPr>
        <p:blipFill>
          <a:blip r:embed="rId2"/>
          <a:stretch/>
        </p:blipFill>
        <p:spPr>
          <a:xfrm>
            <a:off x="1371600" y="3595680"/>
            <a:ext cx="1195560" cy="123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ronoun you"/>
          <p:cNvPicPr/>
          <p:nvPr/>
        </p:nvPicPr>
        <p:blipFill>
          <a:blip r:embed="rId3"/>
          <a:stretch/>
        </p:blipFill>
        <p:spPr>
          <a:xfrm>
            <a:off x="1271520" y="4829040"/>
            <a:ext cx="927000" cy="957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e pronoun"/>
          <p:cNvPicPr/>
          <p:nvPr/>
        </p:nvPicPr>
        <p:blipFill>
          <a:blip r:embed="rId4"/>
          <a:stretch/>
        </p:blipFill>
        <p:spPr>
          <a:xfrm>
            <a:off x="969840" y="5592600"/>
            <a:ext cx="1011240" cy="68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he pronoun"/>
          <p:cNvPicPr/>
          <p:nvPr/>
        </p:nvPicPr>
        <p:blipFill>
          <a:blip r:embed="rId5"/>
          <a:stretch/>
        </p:blipFill>
        <p:spPr>
          <a:xfrm>
            <a:off x="969840" y="6221520"/>
            <a:ext cx="10112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wer about Chav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¿De dónde es Chavo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es de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¿Qué lenguas habla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habla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mparejar (Match Spanish Phrases to English Phrases-Write the correct let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De dónde eres (tú)?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Yo) Soy de…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Qué lenguas hablas (tú)?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Yo) Hablo…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spea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am fro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languages do you sp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rom where are you? (Where are you from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sta (Answ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dónde eres t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 Soy de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uál es tu nacionalidad?  Yo soy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lenguas hablas tú?  Yo hablo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ividad de Hablar ¡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SPAÑOL!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Speaking Activity IN SPANISH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rst , fill in the information for yourself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w find out about the people on your tabl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k each person on the table where he/she is from and what languages he/she speaks. Record their answers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s are used to clarify and emphasiz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the correct pronoun in the blank.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t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               profesor(a)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ronoun I"/>
          <p:cNvPicPr/>
          <p:nvPr/>
        </p:nvPicPr>
        <p:blipFill>
          <a:blip r:embed="rId1"/>
          <a:stretch/>
        </p:blipFill>
        <p:spPr>
          <a:xfrm>
            <a:off x="1652760" y="1417680"/>
            <a:ext cx="828360" cy="1219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pronoun you"/>
          <p:cNvPicPr/>
          <p:nvPr/>
        </p:nvPicPr>
        <p:blipFill>
          <a:blip r:embed="rId2"/>
          <a:stretch/>
        </p:blipFill>
        <p:spPr>
          <a:xfrm>
            <a:off x="1652760" y="2502000"/>
            <a:ext cx="10602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e pronoun"/>
          <p:cNvPicPr/>
          <p:nvPr/>
        </p:nvPicPr>
        <p:blipFill>
          <a:blip r:embed="rId3"/>
          <a:stretch/>
        </p:blipFill>
        <p:spPr>
          <a:xfrm>
            <a:off x="1652760" y="51148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he pronoun"/>
          <p:cNvPicPr/>
          <p:nvPr/>
        </p:nvPicPr>
        <p:blipFill>
          <a:blip r:embed="rId4"/>
          <a:stretch/>
        </p:blipFill>
        <p:spPr>
          <a:xfrm>
            <a:off x="1652760" y="5943600"/>
            <a:ext cx="1180800" cy="7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pronoun you"/>
          <p:cNvPicPr/>
          <p:nvPr/>
        </p:nvPicPr>
        <p:blipFill>
          <a:blip r:embed="rId5"/>
          <a:stretch/>
        </p:blipFill>
        <p:spPr>
          <a:xfrm>
            <a:off x="1652760" y="3595680"/>
            <a:ext cx="1193760" cy="123336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11"/>
          <p:cNvCxnSpPr/>
          <p:nvPr/>
        </p:nvCxnSpPr>
        <p:spPr>
          <a:xfrm flipH="1">
            <a:off x="2671560" y="3976200"/>
            <a:ext cx="4197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7776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n la escuela (In schoo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1st day of school Charlie.jpg"/>
          <p:cNvPicPr/>
          <p:nvPr/>
        </p:nvPicPr>
        <p:blipFill>
          <a:blip r:embed="rId1"/>
          <a:stretch/>
        </p:blipFill>
        <p:spPr>
          <a:xfrm>
            <a:off x="1676520" y="1440000"/>
            <a:ext cx="5410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s are used to clarify and emphasiz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the correct pronoun in the blank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É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-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-                    profesor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pronoun I"/>
          <p:cNvPicPr/>
          <p:nvPr/>
        </p:nvPicPr>
        <p:blipFill>
          <a:blip r:embed="rId1"/>
          <a:stretch/>
        </p:blipFill>
        <p:spPr>
          <a:xfrm>
            <a:off x="1947960" y="14176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pronoun you"/>
          <p:cNvPicPr/>
          <p:nvPr/>
        </p:nvPicPr>
        <p:blipFill>
          <a:blip r:embed="rId2"/>
          <a:stretch/>
        </p:blipFill>
        <p:spPr>
          <a:xfrm>
            <a:off x="2128680" y="250200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e pronoun"/>
          <p:cNvPicPr/>
          <p:nvPr/>
        </p:nvPicPr>
        <p:blipFill>
          <a:blip r:embed="rId3"/>
          <a:stretch/>
        </p:blipFill>
        <p:spPr>
          <a:xfrm>
            <a:off x="2193840" y="482904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he pronoun"/>
          <p:cNvPicPr/>
          <p:nvPr/>
        </p:nvPicPr>
        <p:blipFill>
          <a:blip r:embed="rId4"/>
          <a:stretch/>
        </p:blipFill>
        <p:spPr>
          <a:xfrm>
            <a:off x="2370240" y="5943600"/>
            <a:ext cx="1181160" cy="743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pronoun you"/>
          <p:cNvPicPr/>
          <p:nvPr/>
        </p:nvPicPr>
        <p:blipFill>
          <a:blip r:embed="rId5"/>
          <a:stretch/>
        </p:blipFill>
        <p:spPr>
          <a:xfrm>
            <a:off x="2128680" y="3595680"/>
            <a:ext cx="1195560" cy="123336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1"/>
          <p:cNvCxnSpPr/>
          <p:nvPr/>
        </p:nvCxnSpPr>
        <p:spPr>
          <a:xfrm flipH="1">
            <a:off x="3332880" y="3976200"/>
            <a:ext cx="4201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s of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l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the Question in English to the Span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g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2174400"/>
            <a:ext cx="4645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hat languages do you speak? (friendly)_______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letter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languages do you spea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rmal)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hat languages does he speak?-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language does she spea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usted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tú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él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ella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bla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answer in English to the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é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2174400"/>
            <a:ext cx="4268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 speak Spanish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informal/friendly) speak Spanish.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formal) speak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e speaks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he speaks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Tú) hablas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lla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o) hablo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erb does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really follow the pattern we learned-it is an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rregular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Write what each verb mea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y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s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ronouns for emphasis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correct pronoun in the blan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ú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ted/Ud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É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240" y="141768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y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er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es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pronoun I"/>
          <p:cNvPicPr/>
          <p:nvPr/>
        </p:nvPicPr>
        <p:blipFill>
          <a:blip r:embed="rId1"/>
          <a:stretch/>
        </p:blipFill>
        <p:spPr>
          <a:xfrm>
            <a:off x="1751040" y="12952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pronoun you"/>
          <p:cNvPicPr/>
          <p:nvPr/>
        </p:nvPicPr>
        <p:blipFill>
          <a:blip r:embed="rId2"/>
          <a:stretch/>
        </p:blipFill>
        <p:spPr>
          <a:xfrm>
            <a:off x="1611360" y="2514600"/>
            <a:ext cx="1197000" cy="12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e pronoun"/>
          <p:cNvPicPr/>
          <p:nvPr/>
        </p:nvPicPr>
        <p:blipFill>
          <a:blip r:embed="rId3"/>
          <a:stretch/>
        </p:blipFill>
        <p:spPr>
          <a:xfrm>
            <a:off x="1579680" y="51148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she pronoun"/>
          <p:cNvPicPr/>
          <p:nvPr/>
        </p:nvPicPr>
        <p:blipFill>
          <a:blip r:embed="rId4"/>
          <a:stretch/>
        </p:blipFill>
        <p:spPr>
          <a:xfrm>
            <a:off x="1627200" y="6114960"/>
            <a:ext cx="1181160" cy="743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ronoun you"/>
          <p:cNvPicPr/>
          <p:nvPr/>
        </p:nvPicPr>
        <p:blipFill>
          <a:blip r:embed="rId5"/>
          <a:stretch/>
        </p:blipFill>
        <p:spPr>
          <a:xfrm>
            <a:off x="1579680" y="3747960"/>
            <a:ext cx="11970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s of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tch the Question in English to the Span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g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2174400"/>
            <a:ext cx="4645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are you (friendly) fr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letter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ere are you  (formal) fr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here is he from?-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Where is she from?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tú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ella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answer in English to the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é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 am from….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informal/friendly) are from….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formal) are from…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e is from…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he is from…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 es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Tú) eres de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 es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o) soy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lla) es de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entra en la clase de españ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lassroom.gif"/>
          <p:cNvPicPr/>
          <p:nvPr/>
        </p:nvPicPr>
        <p:blipFill>
          <a:blip r:embed="rId1"/>
          <a:stretch/>
        </p:blipFill>
        <p:spPr>
          <a:xfrm>
            <a:off x="0" y="1347840"/>
            <a:ext cx="8686800" cy="412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2252520" y="2666880"/>
            <a:ext cx="6429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ola Srta. Tor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Buenos dí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od Morning (210).jpg"/>
          <p:cNvPicPr/>
          <p:nvPr/>
        </p:nvPicPr>
        <p:blipFill>
          <a:blip r:embed="rId1"/>
          <a:stretch/>
        </p:blipFill>
        <p:spPr>
          <a:xfrm>
            <a:off x="4724280" y="0"/>
            <a:ext cx="3810240" cy="22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755880" y="2862360"/>
            <a:ext cx="2416320" cy="399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2019240" y="2949480"/>
            <a:ext cx="2362320" cy="390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Kiss.jpg"/>
          <p:cNvPicPr/>
          <p:nvPr/>
        </p:nvPicPr>
        <p:blipFill>
          <a:blip r:embed="rId4"/>
          <a:stretch/>
        </p:blipFill>
        <p:spPr>
          <a:xfrm>
            <a:off x="3686040" y="2490840"/>
            <a:ext cx="13906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28932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219320" y="229536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Luci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dónde er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 soy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y españ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lobe5t"/>
          <p:cNvPicPr/>
          <p:nvPr/>
        </p:nvPicPr>
        <p:blipFill>
          <a:blip r:embed="rId3"/>
          <a:stretch/>
        </p:blipFill>
        <p:spPr>
          <a:xfrm>
            <a:off x="112680" y="1447920"/>
            <a:ext cx="1488960" cy="202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pain_flag_map"/>
          <p:cNvPicPr/>
          <p:nvPr/>
        </p:nvPicPr>
        <p:blipFill>
          <a:blip r:embed="rId4"/>
          <a:stretch/>
        </p:blipFill>
        <p:spPr>
          <a:xfrm>
            <a:off x="6110280" y="1447920"/>
            <a:ext cx="30337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Gen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De qué parte de España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o soy de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Barcelona_Map_000006401124"/>
          <p:cNvPicPr/>
          <p:nvPr/>
        </p:nvPicPr>
        <p:blipFill>
          <a:blip r:embed="rId3"/>
          <a:stretch/>
        </p:blipFill>
        <p:spPr>
          <a:xfrm>
            <a:off x="3303720" y="2743200"/>
            <a:ext cx="32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9216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6796"/>
              <a:gd name="adj2" fmla="val 73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é guay! Me gusta mucho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4495680" y="0"/>
            <a:ext cx="4648320" cy="2514600"/>
          </a:xfrm>
          <a:prstGeom prst="wedgeEllipseCallout">
            <a:avLst>
              <a:gd name="adj1" fmla="val 819"/>
              <a:gd name="adj2" fmla="val 61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es muy gu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0-barcelona_master"/>
          <p:cNvPicPr/>
          <p:nvPr/>
        </p:nvPicPr>
        <p:blipFill>
          <a:blip r:embed="rId3"/>
          <a:stretch/>
        </p:blipFill>
        <p:spPr>
          <a:xfrm>
            <a:off x="2557440" y="3048120"/>
            <a:ext cx="4181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7:44:41Z</dcterms:created>
  <dc:creator>Mac</dc:creator>
  <dc:description/>
  <dc:language>en-US</dc:language>
  <cp:lastModifiedBy>Dusit Princess Srinakarin</cp:lastModifiedBy>
  <dcterms:modified xsi:type="dcterms:W3CDTF">2012-09-22T16:44:40Z</dcterms:modified>
  <cp:revision>204</cp:revision>
  <dc:subject/>
  <dc:title>El 20 de septiembre, lunes</dc:title>
</cp:coreProperties>
</file>